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6AF-319E-4A14-93E6-8EEAE18A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F06-C078-4994-8841-FB1D67F6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78A-161F-489A-A1F6-EE95C456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48B-081F-4EC2-97AF-0BC49906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303-B47A-48A9-9314-98B19D24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4D3-ECCF-42E9-80AB-64C1DF91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02F-9E67-4EEF-86FD-160FAC2D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842-99E7-4FD4-8A6C-34842613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310-C0C1-4E49-8E2B-4F0E8EC8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982-05F3-428A-B7A9-4B5E9FC3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CD2-68E0-441E-9844-16CA2A7C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9AE-1B90-4814-AC6B-C0FC474D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1100-21D2-4841-B961-4254A3E15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147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4608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280" y="1268280"/>
            <a:ext cx="3780000" cy="1008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971640" y="2205000"/>
            <a:ext cx="23032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933720"/>
            <a:ext cx="2016000" cy="1150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IDUZIONE DISTA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5229360"/>
            <a:ext cx="1729080" cy="12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Black"/>
              </a:rPr>
              <a:t>STILI DI VITA PIU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Black"/>
              </a:rPr>
              <a:t>SIM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2276640"/>
            <a:ext cx="36036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3933720"/>
            <a:ext cx="1584360" cy="115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IB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IRCOL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ER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24360" y="4508640"/>
            <a:ext cx="1619280" cy="155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IRCOL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84280"/>
            <a:ext cx="2376360" cy="93672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igliorame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ezzi di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45440" y="2852640"/>
            <a:ext cx="1798560" cy="1152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MIGR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ITT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ULTICULTUR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093080" y="4005360"/>
            <a:ext cx="934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27280" y="2276640"/>
            <a:ext cx="1008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205000"/>
            <a:ext cx="1368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52200">
            <a:off x="485280" y="264600"/>
            <a:ext cx="2303640" cy="1081080"/>
          </a:xfrm>
          <a:prstGeom prst="rightArrow">
            <a:avLst>
              <a:gd name="adj1" fmla="val 44333"/>
              <a:gd name="adj2" fmla="val 65968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IGLIORAMENTO ME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RASP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07:28Z</dcterms:created>
  <dc:creator>informatica20</dc:creator>
  <dc:description/>
  <dc:language>en-US</dc:language>
  <cp:lastModifiedBy>s</cp:lastModifiedBy>
  <dcterms:modified xsi:type="dcterms:W3CDTF">2017-02-13T08:55:07Z</dcterms:modified>
  <cp:revision>7</cp:revision>
  <dc:subject/>
  <dc:title>Diapositiva 1</dc:title>
</cp:coreProperties>
</file>